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7.jpeg" ContentType="image/jpeg"/>
  <Override PartName="/ppt/media/image17.png" ContentType="image/pn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B28-C062-4191-BB28-243BFC82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10C-6EC9-4214-BDC9-AC963D58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041-560A-4BA7-BF2C-ACE68576D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AFA-38EF-4E24-8BAC-2616F813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DB09-DAE8-4676-A985-D6276685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911B-E3A6-4DDE-BF97-937992A9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0EC6-DC9F-4101-9F8E-32953E2A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F0E5-EBB1-4713-B6CD-F26E496D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B70E-CDC5-4410-8F57-8D513AA7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79A5-6C52-4958-9BAB-58C3C7AE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0223-F3AE-40D1-9EE2-9ACE74A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C51-0ED4-4311-95D2-A51FCBE3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03BF-5CA3-4AB1-9755-855CF752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89F6-9073-46BF-AD8C-30F86A65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5F87-B74A-4626-BE0B-48B71EB8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B418-2B79-4FE1-BB04-DE95B7D9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BF14-E60B-4882-BAFD-B95F843F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2B3-DE28-4A1B-8009-F3E914DD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171-11D0-4D96-B9ED-7F4BE7AA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943-BAA6-42CC-BCA4-E704ECBF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B3D-D927-425B-A66E-C5801254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416-763A-459E-B1EA-35234EC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608-DF4C-484E-9A4A-8B5B0B16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B24-7749-4829-8A58-111AB7C3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6BA3-AAC2-42AA-B244-36267CD0517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31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1032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033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34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2666-1C53-405E-B6FB-3C4BB2F4EA2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raq’s political player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se of Ira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Saddamhussein"/>
          <p:cNvPicPr/>
          <p:nvPr/>
        </p:nvPicPr>
        <p:blipFill>
          <a:blip r:embed="rId1"/>
          <a:stretch/>
        </p:blipFill>
        <p:spPr>
          <a:xfrm>
            <a:off x="1066680" y="4114800"/>
            <a:ext cx="2606760" cy="254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faisalagain"/>
          <p:cNvPicPr/>
          <p:nvPr/>
        </p:nvPicPr>
        <p:blipFill>
          <a:blip r:embed="rId2"/>
          <a:stretch/>
        </p:blipFill>
        <p:spPr>
          <a:xfrm>
            <a:off x="6934320" y="838080"/>
            <a:ext cx="182880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ndy"/>
              </a:rPr>
              <a:t>Effects of British colonialism on Iraqi political structures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tuation of Sunni Arab political dom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empowerment of the trib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rura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forced major schisms in Iraqi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Major players in Iraqi Politics,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1921-1936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16" name="Diagram 6"/>
          <p:cNvGrpSpPr/>
          <p:nvPr/>
        </p:nvGrpSpPr>
        <p:grpSpPr>
          <a:xfrm>
            <a:off x="2882880" y="1869840"/>
            <a:ext cx="3907080" cy="3906720"/>
            <a:chOff x="2882880" y="1869840"/>
            <a:chExt cx="3907080" cy="3906720"/>
          </a:xfrm>
        </p:grpSpPr>
        <p:sp>
          <p:nvSpPr>
            <p:cNvPr id="117" name="_s1028"/>
            <p:cNvSpPr/>
            <p:nvPr/>
          </p:nvSpPr>
          <p:spPr>
            <a:xfrm flipH="1">
              <a:off x="3857400" y="3822480"/>
              <a:ext cx="4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1029"/>
            <p:cNvSpPr/>
            <p:nvPr/>
          </p:nvSpPr>
          <p:spPr>
            <a:xfrm>
              <a:off x="2882880" y="3335040"/>
              <a:ext cx="976320" cy="9763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it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1030"/>
            <p:cNvSpPr/>
            <p:nvPr/>
          </p:nvSpPr>
          <p:spPr>
            <a:xfrm>
              <a:off x="4835520" y="4309920"/>
              <a:ext cx="0" cy="49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1031"/>
            <p:cNvSpPr/>
            <p:nvPr/>
          </p:nvSpPr>
          <p:spPr>
            <a:xfrm>
              <a:off x="4348440" y="4800240"/>
              <a:ext cx="976320" cy="9763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u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1032"/>
            <p:cNvSpPr/>
            <p:nvPr/>
          </p:nvSpPr>
          <p:spPr>
            <a:xfrm>
              <a:off x="5322960" y="3822480"/>
              <a:ext cx="49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1033"/>
            <p:cNvSpPr/>
            <p:nvPr/>
          </p:nvSpPr>
          <p:spPr>
            <a:xfrm>
              <a:off x="5813640" y="3335040"/>
              <a:ext cx="976320" cy="9763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ribal leaders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dlo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1034"/>
            <p:cNvSpPr/>
            <p:nvPr/>
          </p:nvSpPr>
          <p:spPr>
            <a:xfrm flipV="1">
              <a:off x="4835520" y="2844000"/>
              <a:ext cx="0" cy="490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4348440" y="1869840"/>
              <a:ext cx="976320" cy="9763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ural Shi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1036"/>
            <p:cNvSpPr/>
            <p:nvPr/>
          </p:nvSpPr>
          <p:spPr>
            <a:xfrm>
              <a:off x="4348440" y="3335040"/>
              <a:ext cx="976320" cy="9763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narch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ime Minis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Results: Catch 22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dgling sense of Iraqi national identity but “two Iraqs” and no real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wants independence but relies on British to maintain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tish support undermines state legitimacy but necessary for maintain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ation of power in Baghdad but British support for trib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mass support, land reform needed, but narrow base of state support requires some aid from tribal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Iraqi Politics, Phase II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y"/>
              </a:rPr>
              <a:t>The rise of the military &amp; the creation of the Iraqi Republic (1936-196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429000" y="380880"/>
            <a:ext cx="27241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1958 Revolu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42721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ent overthrow of the mon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of the Republic of Ir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emonial p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asim as PM, commander in chief, minister of 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orm &amp; Dictatorship under President Abd al-Karim Qa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ging of western advisors, efforts to solve Kurdish problem, land reform, public welfare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ation of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Qasim"/>
          <p:cNvPicPr/>
          <p:nvPr/>
        </p:nvPicPr>
        <p:blipFill>
          <a:blip r:embed="rId8"/>
          <a:stretch/>
        </p:blipFill>
        <p:spPr>
          <a:xfrm>
            <a:off x="5715000" y="609480"/>
            <a:ext cx="3057480" cy="4113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5257800" y="4952880"/>
            <a:ext cx="32004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d al Karim Qasim, President of Iraq, 1958-19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sul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becomes entrenched part of Iraqi political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y influence over politics prevents civilian access, impedes societal coalition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1958 and 1968 more than 10 coups and attempted coups, two armed rebellions, semi-continuous civil war against Kurd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-35% of all cabinet posts held by military 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presidents, most PMs, and almost all ministers of interior and defense were ex-military 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ly independent foreign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and reforms &amp; sporadic inclusion of Shiites &amp; Kurds into the political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Major Players in Iraqi Politics, 1936-1968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38" name="Diagram 0"/>
          <p:cNvGrpSpPr/>
          <p:nvPr/>
        </p:nvGrpSpPr>
        <p:grpSpPr>
          <a:xfrm>
            <a:off x="2892240" y="1766880"/>
            <a:ext cx="4107960" cy="4108320"/>
            <a:chOff x="2892240" y="1766880"/>
            <a:chExt cx="4107960" cy="4108320"/>
          </a:xfrm>
        </p:grpSpPr>
        <p:sp>
          <p:nvSpPr>
            <p:cNvPr id="139" name="_s2052"/>
            <p:cNvSpPr/>
            <p:nvPr/>
          </p:nvSpPr>
          <p:spPr>
            <a:xfrm flipH="1" flipV="1">
              <a:off x="4218840" y="3095280"/>
              <a:ext cx="36324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2053"/>
            <p:cNvSpPr/>
            <p:nvPr/>
          </p:nvSpPr>
          <p:spPr>
            <a:xfrm>
              <a:off x="3342960" y="2217600"/>
              <a:ext cx="1028520" cy="10288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ypt &amp;Sy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2054"/>
            <p:cNvSpPr/>
            <p:nvPr/>
          </p:nvSpPr>
          <p:spPr>
            <a:xfrm flipH="1">
              <a:off x="3918960" y="3821040"/>
              <a:ext cx="5122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2055"/>
            <p:cNvSpPr/>
            <p:nvPr/>
          </p:nvSpPr>
          <p:spPr>
            <a:xfrm>
              <a:off x="2892240" y="3306600"/>
              <a:ext cx="1028160" cy="10288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ath Pa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2056"/>
            <p:cNvSpPr/>
            <p:nvPr/>
          </p:nvSpPr>
          <p:spPr>
            <a:xfrm flipH="1">
              <a:off x="4221000" y="4184640"/>
              <a:ext cx="36144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2057"/>
            <p:cNvSpPr/>
            <p:nvPr/>
          </p:nvSpPr>
          <p:spPr>
            <a:xfrm>
              <a:off x="3342960" y="4395600"/>
              <a:ext cx="1028520" cy="10288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raqi Communi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2058"/>
            <p:cNvSpPr/>
            <p:nvPr/>
          </p:nvSpPr>
          <p:spPr>
            <a:xfrm>
              <a:off x="4946400" y="4335480"/>
              <a:ext cx="1080" cy="51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_s2059"/>
            <p:cNvSpPr/>
            <p:nvPr/>
          </p:nvSpPr>
          <p:spPr>
            <a:xfrm>
              <a:off x="4431960" y="4846680"/>
              <a:ext cx="1028520" cy="10285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iti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until 195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_s2060"/>
            <p:cNvSpPr/>
            <p:nvPr/>
          </p:nvSpPr>
          <p:spPr>
            <a:xfrm>
              <a:off x="5310000" y="4184640"/>
              <a:ext cx="36324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_s2061"/>
            <p:cNvSpPr/>
            <p:nvPr/>
          </p:nvSpPr>
          <p:spPr>
            <a:xfrm>
              <a:off x="5520960" y="4395600"/>
              <a:ext cx="1028520" cy="10288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ndlo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_s2062"/>
            <p:cNvSpPr/>
            <p:nvPr/>
          </p:nvSpPr>
          <p:spPr>
            <a:xfrm>
              <a:off x="5460840" y="3821040"/>
              <a:ext cx="51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_s2063"/>
            <p:cNvSpPr/>
            <p:nvPr/>
          </p:nvSpPr>
          <p:spPr>
            <a:xfrm>
              <a:off x="5972040" y="3306600"/>
              <a:ext cx="1028160" cy="10288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i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inistry/monarch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until 1958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_s2064"/>
            <p:cNvSpPr/>
            <p:nvPr/>
          </p:nvSpPr>
          <p:spPr>
            <a:xfrm flipV="1">
              <a:off x="5310000" y="3095280"/>
              <a:ext cx="361440" cy="36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_s2065"/>
            <p:cNvSpPr/>
            <p:nvPr/>
          </p:nvSpPr>
          <p:spPr>
            <a:xfrm>
              <a:off x="5520960" y="2217600"/>
              <a:ext cx="1028520" cy="102888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hii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_s2066"/>
            <p:cNvSpPr/>
            <p:nvPr/>
          </p:nvSpPr>
          <p:spPr>
            <a:xfrm flipV="1">
              <a:off x="4946400" y="2795040"/>
              <a:ext cx="0" cy="5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_s2067"/>
            <p:cNvSpPr/>
            <p:nvPr/>
          </p:nvSpPr>
          <p:spPr>
            <a:xfrm>
              <a:off x="4431960" y="1766880"/>
              <a:ext cx="1028520" cy="10285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ur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_s2068"/>
            <p:cNvSpPr/>
            <p:nvPr/>
          </p:nvSpPr>
          <p:spPr>
            <a:xfrm>
              <a:off x="4431960" y="3308400"/>
              <a:ext cx="1028520" cy="102852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raq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rm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dy"/>
                <a:ea typeface="Times New Roman"/>
              </a:rPr>
              <a:t>Phase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dy"/>
                <a:ea typeface="Times New Roman"/>
              </a:rPr>
              <a:t>STATE OVER SOCIET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680" y="42667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  <a:ea typeface="Times New Roman"/>
              </a:rPr>
              <a:t>Iraq as a One Party Stat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"/>
                <a:ea typeface="Times New Roman"/>
              </a:rPr>
              <a:t>The Baath Party and the Authoritarian Rule of Saddam Hussein, 1968-200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BaathPartyleadership1990"/>
          <p:cNvPicPr/>
          <p:nvPr/>
        </p:nvPicPr>
        <p:blipFill>
          <a:blip r:embed="rId1"/>
          <a:stretch/>
        </p:blipFill>
        <p:spPr>
          <a:xfrm>
            <a:off x="3962520" y="228600"/>
            <a:ext cx="434340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wo coups: 1963 and 1968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3: Baath Party + Military (Ar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th forced out of the new govt after the c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8: Baath Party c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 for c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-Arabism vs Iraqi na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o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se who dominate the state dominate access to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seeks to maintain control over polit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leadership linked to preoccupation with managing the dispersal of the state’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ise and rule of Saddam Husse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graph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B: 04/28/37 in Tikrit, 100 m. north of Bagh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asant family with influential army rel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prominent: Uncle Ahmed Hassan al-Bakr; a leader of the 1963 coup and later P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ibal society: al-Bejat clan, Albu Nasir T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school in Baghdad; joined Baath Party when 20, aided in failed assassination of Qasim in Oct. 1959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SHidcard10yearsold"/>
          <p:cNvPicPr/>
          <p:nvPr/>
        </p:nvPicPr>
        <p:blipFill>
          <a:blip r:embed="rId6"/>
          <a:stretch/>
        </p:blipFill>
        <p:spPr>
          <a:xfrm>
            <a:off x="5022720" y="2109960"/>
            <a:ext cx="3808440" cy="34272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6172200" y="5715000"/>
            <a:ext cx="251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ddam Hussein’s identity card, when he was 10 years old. Photo: PBS Frontline web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Map of Iraq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3" name="Picture 3" descr="Iraqmap"/>
          <p:cNvPicPr/>
          <p:nvPr/>
        </p:nvPicPr>
        <p:blipFill>
          <a:blip r:embed="rId1"/>
          <a:stretch/>
        </p:blipFill>
        <p:spPr>
          <a:xfrm>
            <a:off x="2743200" y="1905120"/>
            <a:ext cx="37720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2590560"/>
            <a:ext cx="380844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1963 coup becomes vice chair of the main decision making body for the Baath regime. Also in charge of the security servi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comes president in 1979 when al-Bakr was persuaded to step dow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9" descr="SH17yrsold"/>
          <p:cNvPicPr/>
          <p:nvPr/>
        </p:nvPicPr>
        <p:blipFill>
          <a:blip r:embed="rId3"/>
          <a:stretch/>
        </p:blipFill>
        <p:spPr>
          <a:xfrm>
            <a:off x="5257800" y="1143000"/>
            <a:ext cx="3552840" cy="4113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SHCairooldphoto"/>
          <p:cNvPicPr/>
          <p:nvPr/>
        </p:nvPicPr>
        <p:blipFill>
          <a:blip r:embed="rId4"/>
          <a:stretch/>
        </p:blipFill>
        <p:spPr>
          <a:xfrm>
            <a:off x="762120" y="152280"/>
            <a:ext cx="4343400" cy="2697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1"/>
          <p:cNvSpPr/>
          <p:nvPr/>
        </p:nvSpPr>
        <p:spPr>
          <a:xfrm>
            <a:off x="6400800" y="556272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ove left, SH in Cairo after failed ’59 coup; above, SH at 1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sista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urds – open war 1970-1975, with backing of Ir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hiites- formation of secret, clerically led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tigovernment demonstrations in the late 1970s; arrest and execution of prominent Shiite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crac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addam Hussein &amp; the Baath maintained power, 1968-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1. Oil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tionalization of the Iraq Petroleum Company in 1972 + OPEC oil embargo and hike in prices in 1973 = skyrocketing oil revenues for Baath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68 oil revenues: $476 million; 1980- $26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1979 Iraq’s oil production second only to Saudi Arabia’s in oil-producing states of the Persian Gu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(How SH maintained power): </a:t>
            </a:r>
            <a:br>
              <a:rPr sz="44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2. Social welfar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ction of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sidies for basic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, high qualit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university tuition f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ments in status of women (In ’82 more than 30 % univ. students were fem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 literacy campa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highway systems &amp; better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sidies of ordinary consumptio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nd ownerships &amp; no taxes for many Shiite peasants living in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sive reforms in the countryside; new land distributed to far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ween 1970 and 1982 264,400 farmers received grants of la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SHvisitinghomes1980s"/>
          <p:cNvPicPr/>
          <p:nvPr/>
        </p:nvPicPr>
        <p:blipFill>
          <a:blip r:embed="rId1"/>
          <a:stretch/>
        </p:blipFill>
        <p:spPr>
          <a:xfrm>
            <a:off x="2438280" y="838080"/>
            <a:ext cx="4343400" cy="3165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438280" y="434340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ddam Hussein visiting homes, 198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(How SH maintained power)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3. Fear &amp; terr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lesale political repression and persecution of all potential diss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isonment, extrajudicial exec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th sentences including for non-violent offenses, in 1998 and 1999 hundreds of prisoners summarily executed in a “jail cleaning”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hangings and public exec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multiple, alternative sets of internal security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internal security, military intelligence, party intelli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surveillance and informan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d internal migration to resettle restive areas (especially Kurds and Shiite Marsh Arab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(How SH maintained power)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4. Cult of Personalit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3" name="Picture 4" descr="SHmural2"/>
          <p:cNvPicPr/>
          <p:nvPr/>
        </p:nvPicPr>
        <p:blipFill>
          <a:blip r:embed="rId1"/>
          <a:stretch/>
        </p:blipFill>
        <p:spPr>
          <a:xfrm>
            <a:off x="5638680" y="1752480"/>
            <a:ext cx="3071880" cy="4872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SHmural3"/>
          <p:cNvPicPr/>
          <p:nvPr/>
        </p:nvPicPr>
        <p:blipFill>
          <a:blip r:embed="rId2"/>
          <a:stretch/>
        </p:blipFill>
        <p:spPr>
          <a:xfrm>
            <a:off x="2133720" y="1752480"/>
            <a:ext cx="2514600" cy="2446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SHmural"/>
          <p:cNvPicPr/>
          <p:nvPr/>
        </p:nvPicPr>
        <p:blipFill>
          <a:blip r:embed="rId3"/>
          <a:stretch/>
        </p:blipFill>
        <p:spPr>
          <a:xfrm>
            <a:off x="990720" y="4267080"/>
            <a:ext cx="195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SHstatue"/>
          <p:cNvPicPr/>
          <p:nvPr/>
        </p:nvPicPr>
        <p:blipFill>
          <a:blip r:embed="rId1"/>
          <a:stretch/>
        </p:blipFill>
        <p:spPr>
          <a:xfrm>
            <a:off x="2666880" y="380880"/>
            <a:ext cx="6218280" cy="4275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Iraqivictoryarch1989"/>
          <p:cNvPicPr/>
          <p:nvPr/>
        </p:nvPicPr>
        <p:blipFill>
          <a:blip r:embed="rId2"/>
          <a:stretch/>
        </p:blipFill>
        <p:spPr>
          <a:xfrm>
            <a:off x="914400" y="4724280"/>
            <a:ext cx="2678040" cy="1900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38080" y="38098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89 Victory 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(How SH maintained power)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5. Wa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ran-Iraq War 1980-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gest conventional war of th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: 100-000 200,000 Iraqis dead, 400,000 wounded, 70,000 prison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25 billion debt to Saudis, $10 billion to Kuwai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$40 billion to the US, Europe and rest of the wor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idified sentiments of Iraqi national identity among the bulk of the popul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cause of concern over Shiite loyalty SH brought greater numbers of Shiites into the regime as well as repressing any political activ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lamicization of the reg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Background on Iraq: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Four Points To Rememb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aq did not exist as a state prior to 19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 from 3 Ottoman provinces of Mosul, Baghdad, &amp; Bas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gious divisions: Sunnis, Shiites (&amp; Christi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no-linguistic divisions: Arabs, Ku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: 60% Shiite Arab; 15% Sunni Arab; 20 % Kurd (mostly Sunn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n-Rural div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invasion and colonial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 1914 British inv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ed monarc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 Faisal from Arabia becomes king. Iraq gains formal independence in 19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(More results of Iran-Iraq War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med forces grew from 190,000 to over 1 million; Republican Guard grows from 1 to 37 brig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raq becomes major regional military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itarization of society as armed forces became most important part of the stat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ulf War (1990-199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war, SH considerably weaker, forced to rely more on tribes to maintain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sanctions also help him maintai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jor Players in Iraqi politics, 1968-1991/2003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194" name="Diagram 62"/>
          <p:cNvGrpSpPr/>
          <p:nvPr/>
        </p:nvGrpSpPr>
        <p:grpSpPr>
          <a:xfrm>
            <a:off x="1892160" y="1927080"/>
            <a:ext cx="6108120" cy="3791160"/>
            <a:chOff x="1892160" y="1927080"/>
            <a:chExt cx="6108120" cy="3791160"/>
          </a:xfrm>
        </p:grpSpPr>
        <p:sp>
          <p:nvSpPr>
            <p:cNvPr id="195" name="_s3076"/>
            <p:cNvSpPr/>
            <p:nvPr/>
          </p:nvSpPr>
          <p:spPr>
            <a:xfrm>
              <a:off x="4174920" y="2465280"/>
              <a:ext cx="1542600" cy="1541520"/>
            </a:xfrm>
            <a:prstGeom prst="ellipse">
              <a:avLst/>
            </a:prstGeom>
            <a:solidFill>
              <a:srgbClr val="d69b80">
                <a:alpha val="50000"/>
              </a:srgbClr>
            </a:solidFill>
            <a:ln w="4680">
              <a:solidFill>
                <a:srgbClr val="d69b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_s3077"/>
            <p:cNvSpPr/>
            <p:nvPr/>
          </p:nvSpPr>
          <p:spPr>
            <a:xfrm>
              <a:off x="4174920" y="1927080"/>
              <a:ext cx="15426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m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_s3078"/>
            <p:cNvSpPr/>
            <p:nvPr/>
          </p:nvSpPr>
          <p:spPr>
            <a:xfrm>
              <a:off x="4762080" y="3052800"/>
              <a:ext cx="1542960" cy="1541520"/>
            </a:xfrm>
            <a:prstGeom prst="ellipse">
              <a:avLst/>
            </a:prstGeom>
            <a:solidFill>
              <a:srgbClr val="993300">
                <a:alpha val="50000"/>
              </a:srgbClr>
            </a:solidFill>
            <a:ln w="4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_s3079"/>
            <p:cNvSpPr/>
            <p:nvPr/>
          </p:nvSpPr>
          <p:spPr>
            <a:xfrm>
              <a:off x="6457680" y="3630600"/>
              <a:ext cx="15426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addam Hussein &amp; Tikriti trib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_s3080"/>
            <p:cNvSpPr/>
            <p:nvPr/>
          </p:nvSpPr>
          <p:spPr>
            <a:xfrm>
              <a:off x="4174920" y="3639960"/>
              <a:ext cx="1542600" cy="1541520"/>
            </a:xfrm>
            <a:prstGeom prst="ellipse">
              <a:avLst/>
            </a:prstGeom>
            <a:solidFill>
              <a:srgbClr val="993300">
                <a:alpha val="50000"/>
              </a:srgbClr>
            </a:solidFill>
            <a:ln w="4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_s3081"/>
            <p:cNvSpPr/>
            <p:nvPr/>
          </p:nvSpPr>
          <p:spPr>
            <a:xfrm>
              <a:off x="4174920" y="5333760"/>
              <a:ext cx="15426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aath Par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_s3082"/>
            <p:cNvSpPr/>
            <p:nvPr/>
          </p:nvSpPr>
          <p:spPr>
            <a:xfrm>
              <a:off x="3587400" y="3052800"/>
              <a:ext cx="1542960" cy="15415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_s3083"/>
            <p:cNvSpPr/>
            <p:nvPr/>
          </p:nvSpPr>
          <p:spPr>
            <a:xfrm>
              <a:off x="1892160" y="3630600"/>
              <a:ext cx="15426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ther tribes (after 199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ommon themes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Who has been in and who has been out? How have those that maintained power done it?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iraq_ethnoreligious_1992"/>
          <p:cNvPicPr/>
          <p:nvPr/>
        </p:nvPicPr>
        <p:blipFill>
          <a:blip r:embed="rId1"/>
          <a:stretch/>
        </p:blipFill>
        <p:spPr>
          <a:xfrm>
            <a:off x="2590920" y="228600"/>
            <a:ext cx="49910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Centralizing State vs Established social elites: Iraq as a British-allied constitutional monarchy, 1921-1936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808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45720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Iraqi Politics, Phase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Formal Institutions of the St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g (a new instit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reme head of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open &amp; dissolve Parli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grant pardons, issue special ordin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s legislative power with the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ointed Senate &amp; elected chamber of depu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Faisal I, 1</a:t>
            </a:r>
            <a:r>
              <a:rPr b="0" lang="en-US" sz="4400" spc="-1" strike="noStrike" baseline="30000">
                <a:solidFill>
                  <a:srgbClr val="482400"/>
                </a:solidFill>
                <a:latin typeface="Andy"/>
              </a:rPr>
              <a:t>st</a:t>
            </a: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 king of Iraq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3" name="Picture 3" descr="FaisalIblackandwhite"/>
          <p:cNvPicPr/>
          <p:nvPr/>
        </p:nvPicPr>
        <p:blipFill>
          <a:blip r:embed="rId1"/>
          <a:stretch/>
        </p:blipFill>
        <p:spPr>
          <a:xfrm>
            <a:off x="914400" y="1828800"/>
            <a:ext cx="3035160" cy="449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Faisalatparispeaceconference1919"/>
          <p:cNvPicPr/>
          <p:nvPr/>
        </p:nvPicPr>
        <p:blipFill>
          <a:blip r:embed="rId2"/>
          <a:stretch/>
        </p:blipFill>
        <p:spPr>
          <a:xfrm>
            <a:off x="4267080" y="2057400"/>
            <a:ext cx="4699080" cy="379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5181480" y="6019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s from Iraqipages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Faisal’s goals…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v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l eradication of British influence in Ira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a natio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national ar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s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6"/>
          <a:stretch/>
        </p:blipFill>
        <p:spPr>
          <a:xfrm>
            <a:off x="5057640" y="762120"/>
            <a:ext cx="4086360" cy="5676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7"/>
          <a:stretch/>
        </p:blipFill>
        <p:spPr>
          <a:xfrm>
            <a:off x="4876920" y="1523880"/>
            <a:ext cx="16905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ndy"/>
              </a:rPr>
              <a:t>And challengers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(wanted to maintain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ds (opposed Arab national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ite Arabs (opposed educational reforms &amp; exclusion from govern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bal leaders (opposed efforts to redistribute land and erode their power 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“masses” (opposed conscriptio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30s, at least 80 percent of Iraq’s population was r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7:50:11Z</dcterms:created>
  <dc:creator>Ralph Squillace</dc:creator>
  <dc:description/>
  <dc:language>en-US</dc:language>
  <cp:lastModifiedBy>hberndt</cp:lastModifiedBy>
  <dcterms:modified xsi:type="dcterms:W3CDTF">2010-04-06T12:26:15Z</dcterms:modified>
  <cp:revision>166</cp:revision>
  <dc:subject/>
  <dc:title>From Constitutional Monarchy to  Authoritarian State:</dc:title>
</cp:coreProperties>
</file>